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28E-9BCC-40CF-904D-1E5EDC34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620-1E3D-47CC-8266-CA32031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E6A-EC7B-4DFC-9340-39811A3C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166-955B-4B24-A219-BCA60A2E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2E4-C29E-4A0A-8170-BA99B0B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9BA-E2F6-404F-AEBA-C6596BF8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E92-43F6-4FB8-8B9E-A216131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B77-1755-4CB1-B7DC-8E9DEB96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7F6-41BE-444D-A604-FC764BD5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970-083E-43AA-B648-0103FBD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729-66E7-4D74-B110-0F86334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F96-4BAB-426A-8C8C-6DA91C0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DDA2-97FA-4032-A423-218E68AB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7656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toalbum 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8:37:31Z</dcterms:created>
  <dc:creator>Administrator</dc:creator>
  <dc:description/>
  <dc:language>en-US</dc:language>
  <cp:lastModifiedBy>Administrator</cp:lastModifiedBy>
  <dcterms:modified xsi:type="dcterms:W3CDTF">2008-07-26T10:00:06Z</dcterms:modified>
  <cp:revision>2</cp:revision>
  <dc:subject/>
  <dc:title>Fotoalbum A4</dc:title>
</cp:coreProperties>
</file>